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7DF8-7AD4-4E10-92F6-2162F5039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7EEB-6140-44D3-AEF7-88B41E45B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0FAD-58A6-46E3-A164-047943579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7920-FF25-46EF-8FA0-6CAA78987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EB8A5-0061-472D-A547-03FB54670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EE3EB-2592-4B8F-9FAB-ED008292C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D956A-187E-4BA4-BD07-A69E56EC4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D35E0-B553-4CB7-AE1A-99EF02453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8A9CB-087A-4172-84A0-19BD587D1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EC76D-1852-45B9-987A-BBD6E0BFA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671EA-366A-4AB5-BD5C-A47B4027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445F-45F5-41FE-971E-E52ECF520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3572C-572F-4B24-BEEE-7D212FE86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B0132-F83E-45D1-9F7A-9E6737A6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800C3-7D53-4A81-A97C-58046C9D2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42424-7193-4AE9-92F6-BC7D8233E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029EF-1409-4954-A4D8-DE4C497D2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C0E2-3A49-48F1-AC01-C0CFD27E5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9628-B83B-4ADB-A0FD-9C30924E4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62A3-78FA-4071-878F-CD180FB8F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67AE-FEC8-4A52-BDA9-3ECD80102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DCB2-4CA4-4A1A-9242-7A3E081B0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728D-1DDF-4B68-B29F-20F72640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4B5F-B333-4CFA-8E40-3F56B7FDD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Picture 7" descr="grapes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Group 8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Rectangle 9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Rectangle 10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Rectangle 11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AAD68-A069-4DCC-8202-D051A461B3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Rectangle 4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Rectangle 5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Picture 6" descr="grapes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Group 7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Rectangle 8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Rectangle 10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ffcc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D04B7-9D51-42D7-B934-14A0D2487B77}" type="slidenum">
              <a:rPr b="0" lang="en-US" sz="14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wmf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image" Target="../media/image2.wmf"/><Relationship Id="rId6" Type="http://schemas.openxmlformats.org/officeDocument/2006/relationships/slide" Target="slide2.xml"/><Relationship Id="rId7" Type="http://schemas.openxmlformats.org/officeDocument/2006/relationships/slide" Target="slide5.xml"/><Relationship Id="rId8" Type="http://schemas.openxmlformats.org/officeDocument/2006/relationships/image" Target="../media/image2.wmf"/><Relationship Id="rId9" Type="http://schemas.openxmlformats.org/officeDocument/2006/relationships/slide" Target="slide4.xml"/><Relationship Id="rId10" Type="http://schemas.openxmlformats.org/officeDocument/2006/relationships/slide" Target="slide6.xml"/><Relationship Id="rId11" Type="http://schemas.openxmlformats.org/officeDocument/2006/relationships/image" Target="../media/image2.wmf"/><Relationship Id="rId12" Type="http://schemas.openxmlformats.org/officeDocument/2006/relationships/slide" Target="slide6.xml"/><Relationship Id="rId13" Type="http://schemas.openxmlformats.org/officeDocument/2006/relationships/slide" Target="slide6.xml"/><Relationship Id="rId14" Type="http://schemas.openxmlformats.org/officeDocument/2006/relationships/image" Target="../media/image2.wmf"/><Relationship Id="rId15" Type="http://schemas.openxmlformats.org/officeDocument/2006/relationships/slide" Target="slide5.xml"/><Relationship Id="rId16" Type="http://schemas.openxmlformats.org/officeDocument/2006/relationships/slide" Target="slide5.xml"/><Relationship Id="rId17" Type="http://schemas.openxmlformats.org/officeDocument/2006/relationships/slide" Target="slide5.xm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wmf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image" Target="../media/image2.wmf"/><Relationship Id="rId6" Type="http://schemas.openxmlformats.org/officeDocument/2006/relationships/slide" Target="slide2.xml"/><Relationship Id="rId7" Type="http://schemas.openxmlformats.org/officeDocument/2006/relationships/slide" Target="slide5.xml"/><Relationship Id="rId8" Type="http://schemas.openxmlformats.org/officeDocument/2006/relationships/image" Target="../media/image2.wmf"/><Relationship Id="rId9" Type="http://schemas.openxmlformats.org/officeDocument/2006/relationships/slide" Target="slide4.xml"/><Relationship Id="rId10" Type="http://schemas.openxmlformats.org/officeDocument/2006/relationships/slide" Target="slide6.xml"/><Relationship Id="rId11" Type="http://schemas.openxmlformats.org/officeDocument/2006/relationships/image" Target="../media/image2.wmf"/><Relationship Id="rId12" Type="http://schemas.openxmlformats.org/officeDocument/2006/relationships/slide" Target="slide6.xml"/><Relationship Id="rId13" Type="http://schemas.openxmlformats.org/officeDocument/2006/relationships/slide" Target="slide6.xml"/><Relationship Id="rId14" Type="http://schemas.openxmlformats.org/officeDocument/2006/relationships/image" Target="../media/image2.wmf"/><Relationship Id="rId15" Type="http://schemas.openxmlformats.org/officeDocument/2006/relationships/slide" Target="slide5.xml"/><Relationship Id="rId16" Type="http://schemas.openxmlformats.org/officeDocument/2006/relationships/slide" Target="slide5.xml"/><Relationship Id="rId17" Type="http://schemas.openxmlformats.org/officeDocument/2006/relationships/slide" Target="slide5.xml"/><Relationship Id="rId18" Type="http://schemas.openxmlformats.org/officeDocument/2006/relationships/image" Target="../media/image3.jpeg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wmf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image" Target="../media/image2.wmf"/><Relationship Id="rId6" Type="http://schemas.openxmlformats.org/officeDocument/2006/relationships/slide" Target="slide2.xml"/><Relationship Id="rId7" Type="http://schemas.openxmlformats.org/officeDocument/2006/relationships/slide" Target="slide5.xml"/><Relationship Id="rId8" Type="http://schemas.openxmlformats.org/officeDocument/2006/relationships/image" Target="../media/image2.wmf"/><Relationship Id="rId9" Type="http://schemas.openxmlformats.org/officeDocument/2006/relationships/slide" Target="slide4.xml"/><Relationship Id="rId10" Type="http://schemas.openxmlformats.org/officeDocument/2006/relationships/slide" Target="slide6.xml"/><Relationship Id="rId11" Type="http://schemas.openxmlformats.org/officeDocument/2006/relationships/image" Target="../media/image2.wmf"/><Relationship Id="rId12" Type="http://schemas.openxmlformats.org/officeDocument/2006/relationships/slide" Target="slide6.xml"/><Relationship Id="rId13" Type="http://schemas.openxmlformats.org/officeDocument/2006/relationships/slide" Target="slide6.xml"/><Relationship Id="rId14" Type="http://schemas.openxmlformats.org/officeDocument/2006/relationships/image" Target="../media/image2.wmf"/><Relationship Id="rId15" Type="http://schemas.openxmlformats.org/officeDocument/2006/relationships/slide" Target="slide5.xml"/><Relationship Id="rId16" Type="http://schemas.openxmlformats.org/officeDocument/2006/relationships/slide" Target="slide5.xml"/><Relationship Id="rId17" Type="http://schemas.openxmlformats.org/officeDocument/2006/relationships/slide" Target="slide5.xml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wmf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image" Target="../media/image2.wmf"/><Relationship Id="rId6" Type="http://schemas.openxmlformats.org/officeDocument/2006/relationships/slide" Target="slide2.xml"/><Relationship Id="rId7" Type="http://schemas.openxmlformats.org/officeDocument/2006/relationships/slide" Target="slide5.xml"/><Relationship Id="rId8" Type="http://schemas.openxmlformats.org/officeDocument/2006/relationships/image" Target="../media/image2.wmf"/><Relationship Id="rId9" Type="http://schemas.openxmlformats.org/officeDocument/2006/relationships/slide" Target="slide4.xml"/><Relationship Id="rId10" Type="http://schemas.openxmlformats.org/officeDocument/2006/relationships/slide" Target="slide6.xml"/><Relationship Id="rId11" Type="http://schemas.openxmlformats.org/officeDocument/2006/relationships/image" Target="../media/image2.wmf"/><Relationship Id="rId12" Type="http://schemas.openxmlformats.org/officeDocument/2006/relationships/slide" Target="slide6.xml"/><Relationship Id="rId13" Type="http://schemas.openxmlformats.org/officeDocument/2006/relationships/slide" Target="slide6.xml"/><Relationship Id="rId14" Type="http://schemas.openxmlformats.org/officeDocument/2006/relationships/image" Target="../media/image2.wmf"/><Relationship Id="rId15" Type="http://schemas.openxmlformats.org/officeDocument/2006/relationships/slide" Target="slide5.xml"/><Relationship Id="rId16" Type="http://schemas.openxmlformats.org/officeDocument/2006/relationships/slide" Target="slide5.xml"/><Relationship Id="rId17" Type="http://schemas.openxmlformats.org/officeDocument/2006/relationships/slide" Target="slide5.xml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wmf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image" Target="../media/image2.wmf"/><Relationship Id="rId6" Type="http://schemas.openxmlformats.org/officeDocument/2006/relationships/slide" Target="slide2.xml"/><Relationship Id="rId7" Type="http://schemas.openxmlformats.org/officeDocument/2006/relationships/slide" Target="slide5.xml"/><Relationship Id="rId8" Type="http://schemas.openxmlformats.org/officeDocument/2006/relationships/image" Target="../media/image2.wmf"/><Relationship Id="rId9" Type="http://schemas.openxmlformats.org/officeDocument/2006/relationships/slide" Target="slide4.xml"/><Relationship Id="rId10" Type="http://schemas.openxmlformats.org/officeDocument/2006/relationships/slide" Target="slide6.xml"/><Relationship Id="rId11" Type="http://schemas.openxmlformats.org/officeDocument/2006/relationships/image" Target="../media/image2.wmf"/><Relationship Id="rId12" Type="http://schemas.openxmlformats.org/officeDocument/2006/relationships/slide" Target="slide6.xml"/><Relationship Id="rId13" Type="http://schemas.openxmlformats.org/officeDocument/2006/relationships/slide" Target="slide6.xml"/><Relationship Id="rId14" Type="http://schemas.openxmlformats.org/officeDocument/2006/relationships/image" Target="../media/image2.wmf"/><Relationship Id="rId15" Type="http://schemas.openxmlformats.org/officeDocument/2006/relationships/slide" Target="slide5.xml"/><Relationship Id="rId16" Type="http://schemas.openxmlformats.org/officeDocument/2006/relationships/slide" Target="slide5.xml"/><Relationship Id="rId17" Type="http://schemas.openxmlformats.org/officeDocument/2006/relationships/slide" Target="slide5.xml"/><Relationship Id="rId18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wmf"/><Relationship Id="rId3" Type="http://schemas.openxmlformats.org/officeDocument/2006/relationships/slide" Target="slide3.xml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4920" y="730080"/>
            <a:ext cx="1711440" cy="11242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1"/>
          <p:cNvSpPr/>
          <p:nvPr/>
        </p:nvSpPr>
        <p:spPr>
          <a:xfrm>
            <a:off x="193680" y="898560"/>
            <a:ext cx="171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cc"/>
                </a:solidFill>
                <a:uFillTx/>
                <a:latin typeface="Klang MT"/>
                <a:hlinkClick r:id="rId3" action="ppaction://hlinksldjump"/>
              </a:rPr>
              <a:t>Note to Viewers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03" name="Picture 10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4920" y="1720800"/>
            <a:ext cx="1711440" cy="11239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9"/>
          <p:cNvSpPr/>
          <p:nvPr/>
        </p:nvSpPr>
        <p:spPr>
          <a:xfrm>
            <a:off x="193680" y="2025720"/>
            <a:ext cx="171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cc"/>
                </a:solidFill>
                <a:uFillTx/>
                <a:latin typeface="Klang MT"/>
                <a:hlinkClick r:id="rId6" action="ppaction://hlinksldjump"/>
              </a:rPr>
              <a:t>Meet Me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05" name="Picture 12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4920" y="2711520"/>
            <a:ext cx="1711440" cy="11239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3"/>
          <p:cNvSpPr/>
          <p:nvPr/>
        </p:nvSpPr>
        <p:spPr>
          <a:xfrm>
            <a:off x="193680" y="3133800"/>
            <a:ext cx="171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cc"/>
                </a:solidFill>
                <a:uFillTx/>
                <a:latin typeface="Klang MT"/>
                <a:hlinkClick r:id="rId9" action="ppaction://hlinksldjump"/>
              </a:rPr>
              <a:t>Projects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07" name="Picture 19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4920" y="3701880"/>
            <a:ext cx="1711440" cy="11242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22"/>
          <p:cNvSpPr/>
          <p:nvPr/>
        </p:nvSpPr>
        <p:spPr>
          <a:xfrm>
            <a:off x="193680" y="4083120"/>
            <a:ext cx="171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cc"/>
                </a:solidFill>
                <a:uFillTx/>
                <a:latin typeface="Klang MT"/>
                <a:hlinkClick r:id="rId12" action="ppaction://hlinksldjump"/>
              </a:rPr>
              <a:t>Goals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09" name="Picture 21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34920" y="4692600"/>
            <a:ext cx="1711440" cy="11239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15"/>
          <p:cNvSpPr/>
          <p:nvPr/>
        </p:nvSpPr>
        <p:spPr>
          <a:xfrm>
            <a:off x="193680" y="4826160"/>
            <a:ext cx="17114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cc"/>
                </a:solidFill>
                <a:uFillTx/>
                <a:latin typeface="Klang MT"/>
                <a:hlinkClick r:id="rId15" action="ppaction://hlinksldjump"/>
              </a:rPr>
              <a:t>Viewer</a:t>
            </a:r>
            <a:r>
              <a:rPr b="0" lang="en-US" sz="2400" spc="-1" strike="noStrike" u="sng">
                <a:solidFill>
                  <a:srgbClr val="ff99cc"/>
                </a:solidFill>
                <a:uFillTx/>
                <a:latin typeface="Klang MT"/>
                <a:hlinkClick r:id="rId16" action="ppaction://hlinksldjump"/>
              </a:rPr>
              <a:t> </a:t>
            </a:r>
            <a:r>
              <a:rPr b="0" lang="en-US" sz="2400" spc="-1" strike="noStrike" u="sng">
                <a:solidFill>
                  <a:srgbClr val="ff99cc"/>
                </a:solidFill>
                <a:uFillTx/>
                <a:latin typeface="Klang MT"/>
                <a:hlinkClick r:id="rId17" action="ppaction://hlinksldjump"/>
              </a:rPr>
              <a:t>Comments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1" name="WordArt 25"/>
          <p:cNvSpPr txBox="1"/>
          <p:nvPr/>
        </p:nvSpPr>
        <p:spPr>
          <a:xfrm>
            <a:off x="2057400" y="1530360"/>
            <a:ext cx="60958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Welcome to My Portfolio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2" name="WordArt 26"/>
          <p:cNvSpPr txBox="1"/>
          <p:nvPr/>
        </p:nvSpPr>
        <p:spPr>
          <a:xfrm>
            <a:off x="3403440" y="2781360"/>
            <a:ext cx="23371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Jane Do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2002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7920" y="206280"/>
            <a:ext cx="4876920" cy="8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Klang MT"/>
              </a:rPr>
              <a:t>All About Me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910880" y="1076400"/>
            <a:ext cx="3956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Klang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Klang MT"/>
              </a:rPr>
              <a:t>Middle School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Klang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Klang MT"/>
              </a:rPr>
              <a:t>Love to swim, read, play soft ball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Klang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Klang MT"/>
              </a:rPr>
              <a:t>I like math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Klang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Klang MT"/>
              </a:rPr>
              <a:t>I play the flute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Klang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Klang MT"/>
              </a:rPr>
              <a:t>I enjoy tacos, pizza, and ice cream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Klang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Klang MT"/>
              </a:rPr>
              <a:t>I have 2 brothers, 1 sister, mom, dad, and a dog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15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4920" y="730080"/>
            <a:ext cx="1711440" cy="11242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69840" y="898560"/>
            <a:ext cx="171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cc"/>
                </a:solidFill>
                <a:uFillTx/>
                <a:latin typeface="Klang MT"/>
                <a:hlinkClick r:id="rId3" action="ppaction://hlinksldjump"/>
              </a:rPr>
              <a:t>Note to Viewers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17" name="Picture 6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4920" y="1720800"/>
            <a:ext cx="1711440" cy="11239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7"/>
          <p:cNvSpPr/>
          <p:nvPr/>
        </p:nvSpPr>
        <p:spPr>
          <a:xfrm>
            <a:off x="69840" y="2025720"/>
            <a:ext cx="171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cc"/>
                </a:solidFill>
                <a:uFillTx/>
                <a:latin typeface="Klang MT"/>
                <a:hlinkClick r:id="rId6" action="ppaction://hlinksldjump"/>
              </a:rPr>
              <a:t>Meet Me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19" name="Picture 8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4920" y="2711520"/>
            <a:ext cx="1711440" cy="112392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9"/>
          <p:cNvSpPr/>
          <p:nvPr/>
        </p:nvSpPr>
        <p:spPr>
          <a:xfrm>
            <a:off x="69840" y="3133800"/>
            <a:ext cx="171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cc"/>
                </a:solidFill>
                <a:uFillTx/>
                <a:latin typeface="Klang MT"/>
                <a:hlinkClick r:id="rId9" action="ppaction://hlinksldjump"/>
              </a:rPr>
              <a:t>Projects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21" name="Picture 10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4920" y="3701880"/>
            <a:ext cx="1711440" cy="11242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11"/>
          <p:cNvSpPr/>
          <p:nvPr/>
        </p:nvSpPr>
        <p:spPr>
          <a:xfrm>
            <a:off x="69840" y="4083120"/>
            <a:ext cx="171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cc"/>
                </a:solidFill>
                <a:uFillTx/>
                <a:latin typeface="Klang MT"/>
                <a:hlinkClick r:id="rId12" action="ppaction://hlinksldjump"/>
              </a:rPr>
              <a:t>Goals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23" name="Picture 12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34920" y="4692600"/>
            <a:ext cx="1711440" cy="11239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3"/>
          <p:cNvSpPr/>
          <p:nvPr/>
        </p:nvSpPr>
        <p:spPr>
          <a:xfrm>
            <a:off x="69840" y="4826160"/>
            <a:ext cx="17114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cc"/>
                </a:solidFill>
                <a:uFillTx/>
                <a:latin typeface="Klang MT"/>
                <a:hlinkClick r:id="rId15" action="ppaction://hlinksldjump"/>
              </a:rPr>
              <a:t>Viewer</a:t>
            </a:r>
            <a:r>
              <a:rPr b="0" lang="en-US" sz="2400" spc="-1" strike="noStrike" u="sng">
                <a:solidFill>
                  <a:srgbClr val="ff99cc"/>
                </a:solidFill>
                <a:uFillTx/>
                <a:latin typeface="Klang MT"/>
                <a:hlinkClick r:id="rId16" action="ppaction://hlinksldjump"/>
              </a:rPr>
              <a:t> </a:t>
            </a:r>
            <a:r>
              <a:rPr b="0" lang="en-US" sz="2400" spc="-1" strike="noStrike" u="sng">
                <a:solidFill>
                  <a:srgbClr val="ff99cc"/>
                </a:solidFill>
                <a:uFillTx/>
                <a:latin typeface="Klang MT"/>
                <a:hlinkClick r:id="rId17" action="ppaction://hlinksldjump"/>
              </a:rPr>
              <a:t>Comments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25" name="Picture 14" descr=""/>
          <p:cNvPicPr/>
          <p:nvPr/>
        </p:nvPicPr>
        <p:blipFill>
          <a:blip r:embed="rId18"/>
          <a:stretch/>
        </p:blipFill>
        <p:spPr>
          <a:xfrm>
            <a:off x="5829480" y="1076400"/>
            <a:ext cx="297180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0" y="3265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Klang MT"/>
              </a:rPr>
              <a:t>Note to Viewers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pic>
        <p:nvPicPr>
          <p:cNvPr id="127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4920" y="730080"/>
            <a:ext cx="1711440" cy="11242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5"/>
          <p:cNvSpPr/>
          <p:nvPr/>
        </p:nvSpPr>
        <p:spPr>
          <a:xfrm>
            <a:off x="69840" y="898560"/>
            <a:ext cx="171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cc"/>
                </a:solidFill>
                <a:uFillTx/>
                <a:latin typeface="Klang MT"/>
                <a:hlinkClick r:id="rId3" action="ppaction://hlinksldjump"/>
              </a:rPr>
              <a:t>Note to Viewers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29" name="Picture 6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4920" y="1720800"/>
            <a:ext cx="1711440" cy="112392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7"/>
          <p:cNvSpPr/>
          <p:nvPr/>
        </p:nvSpPr>
        <p:spPr>
          <a:xfrm>
            <a:off x="69840" y="2025720"/>
            <a:ext cx="171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cc"/>
                </a:solidFill>
                <a:uFillTx/>
                <a:latin typeface="Klang MT"/>
                <a:hlinkClick r:id="rId6" action="ppaction://hlinksldjump"/>
              </a:rPr>
              <a:t>Meet Me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31" name="Picture 8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4920" y="2711520"/>
            <a:ext cx="1711440" cy="112392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9"/>
          <p:cNvSpPr/>
          <p:nvPr/>
        </p:nvSpPr>
        <p:spPr>
          <a:xfrm>
            <a:off x="69840" y="3133800"/>
            <a:ext cx="171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cc"/>
                </a:solidFill>
                <a:uFillTx/>
                <a:latin typeface="Klang MT"/>
                <a:hlinkClick r:id="rId9" action="ppaction://hlinksldjump"/>
              </a:rPr>
              <a:t>Projects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33" name="Picture 10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4920" y="3701880"/>
            <a:ext cx="1711440" cy="112428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1"/>
          <p:cNvSpPr/>
          <p:nvPr/>
        </p:nvSpPr>
        <p:spPr>
          <a:xfrm>
            <a:off x="69840" y="4083120"/>
            <a:ext cx="171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cc"/>
                </a:solidFill>
                <a:uFillTx/>
                <a:latin typeface="Klang MT"/>
                <a:hlinkClick r:id="rId12" action="ppaction://hlinksldjump"/>
              </a:rPr>
              <a:t>Goals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35" name="Picture 12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34920" y="4692600"/>
            <a:ext cx="1711440" cy="112392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13"/>
          <p:cNvSpPr/>
          <p:nvPr/>
        </p:nvSpPr>
        <p:spPr>
          <a:xfrm>
            <a:off x="69840" y="4826160"/>
            <a:ext cx="17114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cc"/>
                </a:solidFill>
                <a:uFillTx/>
                <a:latin typeface="Klang MT"/>
                <a:hlinkClick r:id="rId15" action="ppaction://hlinksldjump"/>
              </a:rPr>
              <a:t>Viewer</a:t>
            </a:r>
            <a:r>
              <a:rPr b="0" lang="en-US" sz="2400" spc="-1" strike="noStrike" u="sng">
                <a:solidFill>
                  <a:srgbClr val="ff99cc"/>
                </a:solidFill>
                <a:uFillTx/>
                <a:latin typeface="Klang MT"/>
                <a:hlinkClick r:id="rId16" action="ppaction://hlinksldjump"/>
              </a:rPr>
              <a:t> </a:t>
            </a:r>
            <a:r>
              <a:rPr b="0" lang="en-US" sz="2400" spc="-1" strike="noStrike" u="sng">
                <a:solidFill>
                  <a:srgbClr val="ff99cc"/>
                </a:solidFill>
                <a:uFillTx/>
                <a:latin typeface="Klang MT"/>
                <a:hlinkClick r:id="rId17" action="ppaction://hlinksldjump"/>
              </a:rPr>
              <a:t>Comments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057400" y="1523880"/>
            <a:ext cx="6781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Klang MT"/>
              </a:rPr>
              <a:t>I hope you enjoy my portfolio. It is a snapshot of me at this point in time. I tried to include some of my best work and some of my favorite things. My favorite project is the PowerPoint on Africa that I completed with my group. I also included a poem I wrote. Add your comments at the end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Klang MT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Klang MT"/>
              </a:rPr>
              <a:t>Thanks.</a:t>
            </a: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32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Klang MT"/>
              </a:rPr>
              <a:t>Projects</a:t>
            </a:r>
            <a:br>
              <a:rPr sz="4400"/>
            </a:br>
            <a:r>
              <a:rPr b="0" lang="en-US" sz="2800" spc="-1" strike="noStrike">
                <a:solidFill>
                  <a:srgbClr val="ff00ff"/>
                </a:solidFill>
                <a:latin typeface="Klang MT"/>
              </a:rPr>
              <a:t>Each of these is a link to another document.</a:t>
            </a:r>
            <a:endParaRPr b="0" lang="en-US" sz="2800" spc="-1" strike="noStrike">
              <a:solidFill>
                <a:srgbClr val="ff00ff"/>
              </a:solidFill>
              <a:latin typeface="Arial"/>
            </a:endParaRPr>
          </a:p>
        </p:txBody>
      </p:sp>
      <p:pic>
        <p:nvPicPr>
          <p:cNvPr id="139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4920" y="730080"/>
            <a:ext cx="1711440" cy="11242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5"/>
          <p:cNvSpPr/>
          <p:nvPr/>
        </p:nvSpPr>
        <p:spPr>
          <a:xfrm>
            <a:off x="69840" y="898560"/>
            <a:ext cx="171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cc"/>
                </a:solidFill>
                <a:uFillTx/>
                <a:latin typeface="Klang MT"/>
                <a:hlinkClick r:id="rId3" action="ppaction://hlinksldjump"/>
              </a:rPr>
              <a:t>Note to Viewers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41" name="Picture 6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4920" y="1720800"/>
            <a:ext cx="1711440" cy="11239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7"/>
          <p:cNvSpPr/>
          <p:nvPr/>
        </p:nvSpPr>
        <p:spPr>
          <a:xfrm>
            <a:off x="69840" y="2025720"/>
            <a:ext cx="171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cc"/>
                </a:solidFill>
                <a:uFillTx/>
                <a:latin typeface="Klang MT"/>
                <a:hlinkClick r:id="rId6" action="ppaction://hlinksldjump"/>
              </a:rPr>
              <a:t>Meet Me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43" name="Picture 8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4920" y="2711520"/>
            <a:ext cx="1711440" cy="112392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9"/>
          <p:cNvSpPr/>
          <p:nvPr/>
        </p:nvSpPr>
        <p:spPr>
          <a:xfrm>
            <a:off x="69840" y="3133800"/>
            <a:ext cx="171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cc"/>
                </a:solidFill>
                <a:uFillTx/>
                <a:latin typeface="Klang MT"/>
                <a:hlinkClick r:id="rId9" action="ppaction://hlinksldjump"/>
              </a:rPr>
              <a:t>Projects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45" name="Picture 10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4920" y="3701880"/>
            <a:ext cx="1711440" cy="11242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1"/>
          <p:cNvSpPr/>
          <p:nvPr/>
        </p:nvSpPr>
        <p:spPr>
          <a:xfrm>
            <a:off x="69840" y="4083120"/>
            <a:ext cx="171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cc"/>
                </a:solidFill>
                <a:uFillTx/>
                <a:latin typeface="Klang MT"/>
                <a:hlinkClick r:id="rId12" action="ppaction://hlinksldjump"/>
              </a:rPr>
              <a:t>Goals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47" name="Picture 12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34920" y="4692600"/>
            <a:ext cx="1711440" cy="112392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13"/>
          <p:cNvSpPr/>
          <p:nvPr/>
        </p:nvSpPr>
        <p:spPr>
          <a:xfrm>
            <a:off x="69840" y="4826160"/>
            <a:ext cx="17114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cc"/>
                </a:solidFill>
                <a:uFillTx/>
                <a:latin typeface="Klang MT"/>
                <a:hlinkClick r:id="rId15" action="ppaction://hlinksldjump"/>
              </a:rPr>
              <a:t>Viewer</a:t>
            </a:r>
            <a:r>
              <a:rPr b="0" lang="en-US" sz="2400" spc="-1" strike="noStrike" u="sng">
                <a:solidFill>
                  <a:srgbClr val="ff99cc"/>
                </a:solidFill>
                <a:uFillTx/>
                <a:latin typeface="Klang MT"/>
                <a:hlinkClick r:id="rId16" action="ppaction://hlinksldjump"/>
              </a:rPr>
              <a:t> </a:t>
            </a:r>
            <a:r>
              <a:rPr b="0" lang="en-US" sz="2400" spc="-1" strike="noStrike" u="sng">
                <a:solidFill>
                  <a:srgbClr val="ff99cc"/>
                </a:solidFill>
                <a:uFillTx/>
                <a:latin typeface="Klang MT"/>
                <a:hlinkClick r:id="rId17" action="ppaction://hlinksldjump"/>
              </a:rPr>
              <a:t>Comments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46000" y="1854360"/>
            <a:ext cx="33591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660066"/>
              </a:buClr>
              <a:buFont typeface="Klang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Klang MT"/>
              </a:rPr>
              <a:t>Poem </a:t>
            </a:r>
            <a:r>
              <a:rPr b="0" lang="en-US" sz="1400" spc="-1" strike="noStrike">
                <a:solidFill>
                  <a:srgbClr val="660066"/>
                </a:solidFill>
                <a:latin typeface="Klang MT"/>
              </a:rPr>
              <a:t>(I chose this because I like to write and this is one of my favorite pieces.)</a:t>
            </a:r>
            <a:endParaRPr b="0" lang="en-US" sz="1400" spc="-1" strike="noStrike">
              <a:solidFill>
                <a:srgbClr val="6600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660066"/>
              </a:buClr>
              <a:buFont typeface="Klang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Klang MT"/>
              </a:rPr>
              <a:t>Math Problem Solving </a:t>
            </a:r>
            <a:r>
              <a:rPr b="0" lang="en-US" sz="1800" spc="-1" strike="noStrike">
                <a:solidFill>
                  <a:srgbClr val="660066"/>
                </a:solidFill>
                <a:latin typeface="Klang MT"/>
              </a:rPr>
              <a:t>(I solved these problems for a direct math assessment.)</a:t>
            </a:r>
            <a:endParaRPr b="0" lang="en-US" sz="1800" spc="-1" strike="noStrike">
              <a:solidFill>
                <a:srgbClr val="6600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660066"/>
              </a:buClr>
              <a:buFont typeface="Klang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Klang MT"/>
              </a:rPr>
              <a:t>Africa</a:t>
            </a:r>
            <a:r>
              <a:rPr b="0" lang="en-US" sz="1800" spc="-1" strike="noStrike">
                <a:solidFill>
                  <a:srgbClr val="660066"/>
                </a:solidFill>
                <a:latin typeface="Klang MT"/>
              </a:rPr>
              <a:t> (I completed this assignment with a group. We all had responsibilities and worked very well together.)</a:t>
            </a:r>
            <a:endParaRPr b="0" lang="en-US" sz="1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05160" y="1854360"/>
            <a:ext cx="38098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0066"/>
              </a:buClr>
              <a:buFont typeface="Klang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Klang MT"/>
              </a:rPr>
              <a:t>Reading </a:t>
            </a:r>
            <a:r>
              <a:rPr b="0" lang="en-US" sz="1800" spc="-1" strike="noStrike">
                <a:solidFill>
                  <a:srgbClr val="660066"/>
                </a:solidFill>
                <a:latin typeface="Klang MT"/>
              </a:rPr>
              <a:t>(When you go here, you will hear my voice reading a passage from a play.)</a:t>
            </a:r>
            <a:endParaRPr b="0" lang="en-US" sz="1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0066"/>
              </a:buClr>
              <a:buFont typeface="Klang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Klang MT"/>
              </a:rPr>
              <a:t>Science</a:t>
            </a:r>
            <a:r>
              <a:rPr b="0" lang="en-US" sz="1800" spc="-1" strike="noStrike">
                <a:solidFill>
                  <a:srgbClr val="660066"/>
                </a:solidFill>
                <a:latin typeface="Klang MT"/>
              </a:rPr>
              <a:t> (This is a picture of a display I put together for an experiment I conducted in the lab. I earned an A, but must admit I did not agree with everyone else’s conclusion.)</a:t>
            </a:r>
            <a:endParaRPr b="0" lang="en-US" sz="1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80920" y="326520"/>
            <a:ext cx="713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Klang MT"/>
              </a:rPr>
              <a:t>Viewer Comments</a:t>
            </a:r>
            <a:br>
              <a:rPr sz="4400"/>
            </a:br>
            <a:r>
              <a:rPr b="0" lang="en-US" sz="3200" spc="-1" strike="noStrike">
                <a:solidFill>
                  <a:srgbClr val="ff00ff"/>
                </a:solidFill>
                <a:latin typeface="Klang MT"/>
              </a:rPr>
              <a:t>For this slide, go to slide view to add comments.</a:t>
            </a:r>
            <a:endParaRPr b="0" lang="en-US" sz="3200" spc="-1" strike="noStrike">
              <a:solidFill>
                <a:srgbClr val="ff00ff"/>
              </a:solidFill>
              <a:latin typeface="Arial"/>
            </a:endParaRPr>
          </a:p>
        </p:txBody>
      </p:sp>
      <p:pic>
        <p:nvPicPr>
          <p:cNvPr id="152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4920" y="730080"/>
            <a:ext cx="1711440" cy="11242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69840" y="898560"/>
            <a:ext cx="171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cc"/>
                </a:solidFill>
                <a:uFillTx/>
                <a:latin typeface="Klang MT"/>
                <a:hlinkClick r:id="rId3" action="ppaction://hlinksldjump"/>
              </a:rPr>
              <a:t>Note to Viewers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54" name="Picture 6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4920" y="1720800"/>
            <a:ext cx="1711440" cy="112392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7"/>
          <p:cNvSpPr/>
          <p:nvPr/>
        </p:nvSpPr>
        <p:spPr>
          <a:xfrm>
            <a:off x="69840" y="2025720"/>
            <a:ext cx="171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cc"/>
                </a:solidFill>
                <a:uFillTx/>
                <a:latin typeface="Klang MT"/>
                <a:hlinkClick r:id="rId6" action="ppaction://hlinksldjump"/>
              </a:rPr>
              <a:t>Meet Me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56" name="Picture 8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4920" y="2711520"/>
            <a:ext cx="1711440" cy="112392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9"/>
          <p:cNvSpPr/>
          <p:nvPr/>
        </p:nvSpPr>
        <p:spPr>
          <a:xfrm>
            <a:off x="69840" y="3133800"/>
            <a:ext cx="171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cc"/>
                </a:solidFill>
                <a:uFillTx/>
                <a:latin typeface="Klang MT"/>
                <a:hlinkClick r:id="rId9" action="ppaction://hlinksldjump"/>
              </a:rPr>
              <a:t>Projects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58" name="Picture 10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4920" y="3701880"/>
            <a:ext cx="1711440" cy="11242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1"/>
          <p:cNvSpPr/>
          <p:nvPr/>
        </p:nvSpPr>
        <p:spPr>
          <a:xfrm>
            <a:off x="69840" y="4083120"/>
            <a:ext cx="171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cc"/>
                </a:solidFill>
                <a:uFillTx/>
                <a:latin typeface="Klang MT"/>
                <a:hlinkClick r:id="rId12" action="ppaction://hlinksldjump"/>
              </a:rPr>
              <a:t>Goals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60" name="Picture 12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34920" y="4692600"/>
            <a:ext cx="1711440" cy="112392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13"/>
          <p:cNvSpPr/>
          <p:nvPr/>
        </p:nvSpPr>
        <p:spPr>
          <a:xfrm>
            <a:off x="69840" y="4826160"/>
            <a:ext cx="17114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cc"/>
                </a:solidFill>
                <a:uFillTx/>
                <a:latin typeface="Klang MT"/>
                <a:hlinkClick r:id="rId15" action="ppaction://hlinksldjump"/>
              </a:rPr>
              <a:t>Viewer</a:t>
            </a:r>
            <a:r>
              <a:rPr b="0" lang="en-US" sz="2400" spc="-1" strike="noStrike" u="sng">
                <a:solidFill>
                  <a:srgbClr val="ff99cc"/>
                </a:solidFill>
                <a:uFillTx/>
                <a:latin typeface="Klang MT"/>
                <a:hlinkClick r:id="rId16" action="ppaction://hlinksldjump"/>
              </a:rPr>
              <a:t> </a:t>
            </a:r>
            <a:r>
              <a:rPr b="0" lang="en-US" sz="2400" spc="-1" strike="noStrike" u="sng">
                <a:solidFill>
                  <a:srgbClr val="ff99cc"/>
                </a:solidFill>
                <a:uFillTx/>
                <a:latin typeface="Klang MT"/>
                <a:hlinkClick r:id="rId17" action="ppaction://hlinksldjump"/>
              </a:rPr>
              <a:t>Comments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2" name="Text Box 14"/>
          <p:cNvSpPr/>
          <p:nvPr/>
        </p:nvSpPr>
        <p:spPr>
          <a:xfrm>
            <a:off x="2057400" y="2025720"/>
            <a:ext cx="655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I enjoyed your portfolio. I especially thought your poem was creative. Mrs. Harrison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3" name="Text Box 15"/>
          <p:cNvSpPr/>
          <p:nvPr/>
        </p:nvSpPr>
        <p:spPr>
          <a:xfrm>
            <a:off x="2057400" y="2782800"/>
            <a:ext cx="655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You are definitely a mathematician. Your math problem was hard. Mr. Johnson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4" name="Text Box 16"/>
          <p:cNvSpPr/>
          <p:nvPr/>
        </p:nvSpPr>
        <p:spPr>
          <a:xfrm>
            <a:off x="2057400" y="370188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Thank you for letting me get to know you a little. Mr. Beal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 spd="med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Klang MT"/>
              </a:rPr>
              <a:t>Goals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80920" y="1720800"/>
            <a:ext cx="7086600" cy="38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Klang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Klang MT"/>
              </a:rPr>
              <a:t>Prepare for college the best way I know how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Klang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Klang MT"/>
              </a:rPr>
              <a:t>Improve my grades by spending more time on homework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67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4920" y="730080"/>
            <a:ext cx="1711440" cy="112428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69840" y="898560"/>
            <a:ext cx="171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cc"/>
                </a:solidFill>
                <a:uFillTx/>
                <a:latin typeface="Klang MT"/>
                <a:hlinkClick r:id="rId3" action="ppaction://hlinksldjump"/>
              </a:rPr>
              <a:t>Note to Viewers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69" name="Picture 6" descr=""/>
          <p:cNvPicPr/>
          <p:nvPr/>
        </p:nvPicPr>
        <p:blipFill>
          <a:blip r:embed="rId4"/>
          <a:stretch/>
        </p:blipFill>
        <p:spPr>
          <a:xfrm>
            <a:off x="34920" y="1720800"/>
            <a:ext cx="1711440" cy="11239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7"/>
          <p:cNvSpPr/>
          <p:nvPr/>
        </p:nvSpPr>
        <p:spPr>
          <a:xfrm>
            <a:off x="69840" y="2025720"/>
            <a:ext cx="171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Klang MT"/>
              </a:rPr>
              <a:t>Meet Me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71" name="Picture 8" descr=""/>
          <p:cNvPicPr/>
          <p:nvPr/>
        </p:nvPicPr>
        <p:blipFill>
          <a:blip r:embed="rId5"/>
          <a:stretch/>
        </p:blipFill>
        <p:spPr>
          <a:xfrm>
            <a:off x="34920" y="2711520"/>
            <a:ext cx="1711440" cy="112392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9"/>
          <p:cNvSpPr/>
          <p:nvPr/>
        </p:nvSpPr>
        <p:spPr>
          <a:xfrm>
            <a:off x="69840" y="3133800"/>
            <a:ext cx="171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Klang MT"/>
              </a:rPr>
              <a:t>Projects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73" name="Picture 10" descr=""/>
          <p:cNvPicPr/>
          <p:nvPr/>
        </p:nvPicPr>
        <p:blipFill>
          <a:blip r:embed="rId6"/>
          <a:stretch/>
        </p:blipFill>
        <p:spPr>
          <a:xfrm>
            <a:off x="34920" y="3701880"/>
            <a:ext cx="1711440" cy="112428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11"/>
          <p:cNvSpPr/>
          <p:nvPr/>
        </p:nvSpPr>
        <p:spPr>
          <a:xfrm>
            <a:off x="69840" y="4083120"/>
            <a:ext cx="171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Klang MT"/>
              </a:rPr>
              <a:t>Goals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75" name="Picture 12" descr=""/>
          <p:cNvPicPr/>
          <p:nvPr/>
        </p:nvPicPr>
        <p:blipFill>
          <a:blip r:embed="rId7"/>
          <a:stretch/>
        </p:blipFill>
        <p:spPr>
          <a:xfrm>
            <a:off x="34920" y="4692600"/>
            <a:ext cx="1711440" cy="112392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13"/>
          <p:cNvSpPr/>
          <p:nvPr/>
        </p:nvSpPr>
        <p:spPr>
          <a:xfrm>
            <a:off x="69840" y="4826160"/>
            <a:ext cx="171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Klang MT"/>
              </a:rPr>
              <a:t>Viewer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0066"/>
                </a:solidFill>
                <a:latin typeface="Klang MT"/>
              </a:rPr>
              <a:t>Comments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 spd="med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3T05:58:20Z</dcterms:created>
  <dc:creator>New Century Classroom</dc:creator>
  <dc:description/>
  <dc:language>en-US</dc:language>
  <cp:lastModifiedBy>helen</cp:lastModifiedBy>
  <dcterms:modified xsi:type="dcterms:W3CDTF">2011-03-23T15:33:58Z</dcterms:modified>
  <cp:revision>8</cp:revision>
  <dc:subject/>
  <dc:title>PowerPoint Presentation</dc:title>
</cp:coreProperties>
</file>